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F60-E72B-489E-90B0-B69F6A8B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773-775A-4564-AB88-BC0144D0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996-E911-4D2D-82FD-E2ECAEB9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CDF-7D4A-44EF-B9C5-B80A6F5E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941-53D1-4CE4-B099-572441E7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4937-8A8B-403C-B9E7-85C20353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6138-2689-4DEA-873F-D0993C0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6B56-4253-4998-BBCF-0F912023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5578-15FF-495C-9995-35AF3C4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7930-E1E6-4526-879C-D12EA0B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24E3-040F-4E99-8409-F329A51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16D-F475-4080-B67C-86B9776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8D07-D2BE-45D5-A04F-01180AA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6845-A833-4FCE-892B-7DACC52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C4E2-189A-4897-9909-5B7F57A4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63EB-EF6F-4BD2-AEA7-225FB8CB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63E-59AB-47E8-B2EF-E6A055BC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A7DE-DBC0-418B-9A90-8D141358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C74F-74F7-4649-AD54-736CA9D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2C9E-D0DA-4A45-9003-F9EEEC3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46E7-CD27-456D-868B-BE45F54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3D43-3A54-4920-B50E-F02D8B9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C07-695F-41D5-8AA1-1A63DD21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214D-0B8B-4DFE-9FA7-FD9D6CE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0EC8-0A78-4094-9464-B318F5C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0946-8DE9-4B1A-B1B2-3F6CA05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694A-EB4D-4430-9A2D-E0C2F05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0B21-E832-42AA-923C-BE5C0918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FAD9-64E7-4D78-869E-F7A798FA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FA27-C399-4ACE-BFB1-71C145B8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F7A3-311B-41C8-8076-53B8C4DC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29BE-D12C-4BA1-8D6F-1B880B6E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6FC8-9479-4532-B130-FF76BC7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2B6-4B04-43D4-92CB-0593B066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5B61-E60D-4D20-9A1C-9FD20FF5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8A25-126F-4633-B8C6-92BC0F44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A049-BE39-4150-9339-ABE2E3BD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29B1-4729-476A-9D0D-9AFD526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5B36-6D91-4C24-A45E-746EA71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6967-E242-4238-BC2D-73576A3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9548-D676-434B-B318-4A4812F6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1A1A-BC9B-44BF-A6C5-B19412E5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FA7C-B4FD-41EE-BC51-90628550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7B3-56B3-4232-A36D-34F18F3E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E1B-34E6-4072-95EA-DBDBA39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345-E1AC-4B03-8484-0213892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231-BF24-49E9-B978-F4A7493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DB1-7617-4F50-8F57-9F0F51A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617-F6A8-46A9-9CF2-16B354C8AE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DE3-2A3E-4D7C-9D69-5317F92246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BBF-25E2-47CF-8528-8002EA50763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5223-A3DF-4E37-9482-34748037345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196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lletin Bo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EDTECK 003.jpg"/>
          <p:cNvPicPr/>
          <p:nvPr/>
        </p:nvPicPr>
        <p:blipFill>
          <a:blip r:embed="rId2"/>
          <a:stretch/>
        </p:blipFill>
        <p:spPr>
          <a:xfrm>
            <a:off x="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EDTECK 004.jpg"/>
          <p:cNvPicPr/>
          <p:nvPr/>
        </p:nvPicPr>
        <p:blipFill>
          <a:blip r:embed="rId3"/>
          <a:stretch/>
        </p:blipFill>
        <p:spPr>
          <a:xfrm>
            <a:off x="441180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wEDTECK 001.jpg"/>
          <p:cNvPicPr/>
          <p:nvPr/>
        </p:nvPicPr>
        <p:blipFill>
          <a:blip r:embed="rId4"/>
          <a:stretch/>
        </p:blipFill>
        <p:spPr>
          <a:xfrm>
            <a:off x="4411800" y="0"/>
            <a:ext cx="473220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wEDTECK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6" descr="wEDTECK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wEDTECK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ints for Improv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etter heads are not that big enoug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nnouncements/Jobs posted are not eye-catch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obs Listed are scrambled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B OPPORT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476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ITSE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’6’’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/BEED degree hol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2 to 3 years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y now at the Ateneo Human Resources Section look for Crisel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343400" y="1828800"/>
            <a:ext cx="3581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AHAN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G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 FILIPINO 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y 2 to 3 taong eksperyensi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umugol na sa Filipino department at hanapin si Majorie o si Arc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7162920" y="20574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21:42:29Z</dcterms:created>
  <dc:creator>Imperialdramon</dc:creator>
  <dc:description/>
  <dc:language>en-US</dc:language>
  <cp:lastModifiedBy>Jaiza Arcilla </cp:lastModifiedBy>
  <dcterms:modified xsi:type="dcterms:W3CDTF">2012-08-29T23:57:29Z</dcterms:modified>
  <cp:revision>6</cp:revision>
  <dc:subject/>
  <dc:title>Slide 1</dc:title>
</cp:coreProperties>
</file>